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D14-C792-4B04-9500-4FC92872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840-F5A7-496C-A61E-864341A6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339-798A-4370-8D09-79BDC298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9FF-EF0C-44AA-B169-5D160496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6DA8-5375-4C1C-9F72-48D66B79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F37D-5350-4AFC-B704-E1A51F29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81F7-6911-4C65-91B7-71C84451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6522-BBCE-4CFD-9650-F0A31723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E282-E76A-4A3B-B380-43E7A16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33F9-06C7-4E28-A5AC-25006CC0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9080-B488-4107-BE4B-BDDD6FF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552-7DAB-401B-9C04-CDEFE62E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F6E5-6129-4560-9752-78AB19B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0BE2-296D-4456-AEAE-C5D65B11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8DFB-F820-4D64-8154-08A038A8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1F8E-20D8-4562-940C-F86CC387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C448-35CD-4717-85E9-AF4308FA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57B4-6E6A-4BE3-8EC8-781E2B34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1E66-0C1B-41FE-B070-BF8F5BFB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608C-9A9B-4F1B-8603-11088413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F3F0-207D-48BA-9DBE-4D6B0A3B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184F-1D8B-4A01-B325-BBC3DFCC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5C9-4325-433C-9E15-764F085D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627D-4AF8-4714-87BD-B451DAF7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D703-C1DD-420B-A1C4-0231506D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5A3F-3548-47E3-B2F7-C98FA9D5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3265F-9C67-4D28-8033-5DD8807A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40D2-64A3-46D2-9750-C1A326BA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C955-1162-4323-8CF4-8BE9E789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4209-4B92-424A-B1D3-B3B0D959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AF6CA-D601-420B-A593-4764FED3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1096-50E2-415B-8FDA-891AD090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9B9F5-D640-4A90-BBE5-7B65C42D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E72-6793-49AD-AD87-494CF12E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7A5C-0BB7-474D-92C8-96D2D95C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6729D-C29F-4611-B63E-6C1DA806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6E1E1-1781-4A7F-B653-F88D9914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4C8C6-EB53-43AD-8807-8362E9E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8C191-BB92-481C-ACB7-51E56C44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4752C-F7B0-422E-BF12-BB9F071F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D8FC-25E9-4D58-934F-0C82267A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38549-24E4-4A1E-BB6F-1690FFA7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2892B-FCED-4EF7-B355-FDF529F4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EC5D5-E027-46FD-B23E-C4076E73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5C9-B826-4EF7-9E60-30A8107E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10327-9DCF-4E4C-92EE-12003F97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A2B81-5116-48BB-B1F0-96FA6765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9EC94-9894-4B01-8FF8-65F79C0C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C6B00-484A-4FB3-94C0-60766758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173E-5D32-4300-8B6F-F5139DEF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8F62C-2F3F-4068-823E-F1E3204E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9C99A-6824-4500-887D-2765F90A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BA1C6-A845-46CF-A626-7E6DFB4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5BCFF-052E-492F-B0BF-E0DE525A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864E6-0120-4254-A0D9-FF04B26A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7B0-CBBB-4982-9308-D6C47C9F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C119-32B9-4E14-BCED-F2FBE1A7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794EF-AD12-4512-8DE5-849AD3AA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246F0-329C-4397-B3DF-E911227F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19FB6-49CC-4BB6-8B44-6F09B113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F89CC-E8EF-4680-A71E-18403C34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55A6C-70A1-44F8-BDE0-1229B1C5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7BCCB-42A3-43AF-9DEC-A3CA2673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04968-9D47-49AD-9633-D7CE0D1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41731-B5E8-41F2-B4DF-9E0A7FF7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32C4F-B562-4352-9868-D5C17ED1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893-14F2-41B1-B489-9B17CBD1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65831-55AC-40C7-ABD0-0F5A900B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7E91E-5C28-4555-A842-30563C8B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BA85F-D5FD-4D30-A10C-558F4D10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897AA-2268-45A8-A69F-6DD3D125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4A46C-0808-485C-BB89-5E7CE459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4AC27-2960-45B2-B158-C79C0E34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AA3E-0970-41BB-BCF6-BA7C6BBD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232BF-8FCB-4D5B-B83F-81D77DD7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A905F-3263-4B6A-823E-0C677057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28BA6-6A4A-40D4-A4D4-FC452743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9FB-EA05-477C-A40F-2FDB275D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58378-2002-43EC-9F57-21402263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2AC4A-F870-4CDD-B5C2-5F5215F6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58AA7-8C93-4AF8-AF4C-132737FD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96203-CBBA-46F0-8468-E8941F78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E235E-CC40-438D-BBE1-616E96F1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F4DD6-A4D3-4DF1-B1A3-7133DF57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8473F-010E-4F3E-983B-F61EE669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316EA-EB58-4B25-8385-76B88FEA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DC6D0-B244-4094-A96D-4C668D5B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983A7-D9F3-4F08-8CD4-E002AE3A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EE3-683A-4485-ACBE-7383C78F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4806B-02B6-4B21-97F9-C5D02BE7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1E89D-55B4-497E-88FE-86B13A54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D7F89-818D-4A8E-86B4-B4C49925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384C2-9469-41D9-8123-6C2FCD7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6F55E-4817-48F2-BBA2-F0915F72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4A315-EE50-4F5A-B076-BF06487A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FA402-38CE-44DD-9974-BBF57260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8E26-CCFC-427D-A3FD-1323201646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BAA4-3B98-4668-A16F-80F91E7926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218C-CA4C-486A-B4A6-5BDF1641B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DBDF-8675-430D-A674-C07F72613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B2E7-6378-4A00-9D69-7B3787569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E797-4BC6-43ED-B53C-7008A428E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531F-0136-4960-9631-257233176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9818-E156-43FF-9446-666992326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vanraalte.wikispaces.com/home" TargetMode="External"/><Relationship Id="rId3" Type="http://schemas.openxmlformats.org/officeDocument/2006/relationships/hyperlink" Target="http://vanraalte.wikispaces.com/home" TargetMode="External"/><Relationship Id="rId4" Type="http://schemas.openxmlformats.org/officeDocument/2006/relationships/hyperlink" Target="http://vanraalte.wikispaces.com/home" TargetMode="External"/><Relationship Id="rId5" Type="http://schemas.openxmlformats.org/officeDocument/2006/relationships/hyperlink" Target="http://westwood.wikispaces.com/" TargetMode="External"/><Relationship Id="rId6" Type="http://schemas.openxmlformats.org/officeDocument/2006/relationships/hyperlink" Target="http://westwood.wikispaces.com/" TargetMode="External"/><Relationship Id="rId7" Type="http://schemas.openxmlformats.org/officeDocument/2006/relationships/hyperlink" Target="http://burell9english.wikispaces.com/" TargetMode="External"/><Relationship Id="rId8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4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Tuesday, March 29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llaborative proj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student note keep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Group project management / host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tudent Centered Activ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tudent writing / edit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llaborative ability to edit is key featu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s vs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 archive of previous posts in wikis, but change history is recorde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s are quicker to change, adaptab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re visible student particip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Available Support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iki Resource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ikispaces.com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(ad/links free for education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Sample Class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Mr. van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3"/>
              </a:rPr>
              <a:t>Raalte's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4"/>
              </a:rPr>
              <a:t> Mat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5"/>
              </a:rPr>
              <a:t>Westwood Schoo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6"/>
              </a:rPr>
              <a:t>Flat Classroom Projec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7"/>
              </a:rPr>
              <a:t>1001 Flat World Tales Projec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Your time…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On the class wiki resource we have set up, you can click on the WIKI link…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heck out a few of the wiki si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Share, brainstorm, ideas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omment in your blo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81080" y="1980720"/>
            <a:ext cx="42674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textbooks still releva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 you see a classroom without tex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would replace them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255744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 do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al Blog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Paper du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 Plan Assignment due Apri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g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 7 &amp; 8 (Pages 101-1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28440" y="1066320"/>
            <a:ext cx="7010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k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What is this new world anyway? A brief history of this new web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al applications of wikis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wikis to share information with students and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writing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based projects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textbooks still relevant? Can you see a classroom without texts? What would replace them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43440" y="3138480"/>
            <a:ext cx="12571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tique Olive"/>
              </a:rPr>
              <a:t>Wiki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tique Olive"/>
              <a:ea typeface="Antique Oliv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iki Basic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Using Blogs, Wikis and Podcasts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s Learning Tool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Wiki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wiki wiki”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- Hawaiian for “fast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ackrony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W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ha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w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pedi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073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ebsite – allows visitors or members to add, remove, edit cont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ase of use, like using MS Word docu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ree levels of participation (edit, edit with moderation, read-onl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 / School commun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jeff.whipple</cp:lastModifiedBy>
  <dcterms:modified xsi:type="dcterms:W3CDTF">2007-03-29T00:32:36Z</dcterms:modified>
  <cp:revision>47</cp:revision>
  <dc:subject/>
  <dc:title>Welcome to  ED3862</dc:title>
</cp:coreProperties>
</file>